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6A5-8DFD-4582-B146-60D6D00A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4C9-2AA9-4B5D-9AEA-4DC7946C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A62-332F-419C-BE81-FE646195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99B-45A7-4C8B-96E5-7058E5FF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A02C-B908-4A1C-89C3-4C043E31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444-8965-4864-9BCF-0047672A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1A3D-5DEC-4B3D-8966-0F71760E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E4A9-825E-49D0-88EF-AC3E7654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2986-7199-4E6A-879F-E8230F5F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D7B-7A1F-4CA6-9EAD-B24B1E7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862A-8C22-4527-9BC4-4D702586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202-E4EE-41E7-9959-3D9F47BC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3648-6CBD-4B83-A181-292AD69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A9E6-4EA9-4887-9216-49344948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9ACE-881A-49D0-B7CA-DF1D080E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EAFB-C941-4761-922A-6FC33B53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DB81-E0F2-4FCA-A140-48E0ECCA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92B-C70C-4396-85AE-78257BDA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CD8-C0B8-4393-8F09-76C6388D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5C2-F041-4801-8CD9-7E2EE10F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859-0AFE-415B-AE29-D34E3F1E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E61-537F-44CE-B23A-A16FB89E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337-E7C0-4F2D-BCE5-4A871E2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015-2F33-40A2-B381-4199E97F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6CC0-2589-4EC8-B52C-19C446986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A357-7844-463D-B10F-89AD05281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pter 30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sonian Progressivism at Home and Ab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2-19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sonian Progressiv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ed child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amson Act of 1916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tablished 8-hour workday for employees on trains in interstate comme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 Follette Seamen’s Act of 1915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quired decent treatment &amp; a living wage on American merchant sh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reign Poli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iled from aggressive foreign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ared war on dollar diplom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led Panama Canal Tolls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Jones Act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nted Philippines territorial status &amp; promised independence w/ sta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atched troops to Haiti in 1915 to protect American li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 Breaks out in Europ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 patriot kills Franz Ferdinand (archduke of Austria-Hung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&amp; Russia mobilize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y attacks France through Belg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Britain sides w/ Fr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 in Europ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Pow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ia- 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ga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50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95480" y="4278240"/>
            <a:ext cx="31244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utralit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son issues neutrality procla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sides wooed the United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mericans were anti-G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ity of Americans hoped to stay out of w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utrality Teste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is “neutr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 Morgan gives $2.3 billion to All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unhappy, but can still technically trade w/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 has blocka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915- Germany declares submarine war area around British Is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son wants to remain neutral, warns Germany they will be held accountable if they sink any of America’s neutral shi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8195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usitania Sinks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submarines= u-bo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few months of 1915- Germany sinks 90 ships in war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usitania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ed merchant crui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k w/ torpedo on May 7, 19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ed 1,198 lives (128 American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s outraged at mass murder &amp; pi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5146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199044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restricted Submarine Warf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sinking another British ship, Germany agrees not to sink unarmed &amp; unresisting passenger ships w/o w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ss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ltimatum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son informed Germans that unless they renounced sinking merchant ships w/o warning, he would break diplomatic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reluctantly ac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9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: Woodrow Wilson (New Freed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enterprise, free functioning of unmonopolized &amp; unregulated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Party: Teddy Roosevelt (New National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l Moose” Par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olidation of trust, women’s suffrage, social welf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 Candidate: William H. T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9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 was nominated as Progressive (Bull Moose) candidate, refused to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essive party die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: Supreme Court Justice Charles Evans Hug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emned tariff &amp; assault on tru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: Woodrow Wil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Kept us out of War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son wins by narrow marg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sterns agreed w/ Wilson’s progressive reforms &amp; antiwar poli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litical Carto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sheet of paper provided to you, you will be creating a political cartoon about the Progressive Era (Roosevelt- Wilson) or the start of World War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ust be col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ust have a political message regarding this time period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have time on Tuesday to work on this in class as w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72320" cy="25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29000" y="3048120"/>
            <a:ext cx="2735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614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odrow Wils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42% of the popular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ft + Roosevelt got 1.25 million votes more than Wil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ful o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cold &amp; stand-offish in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compromise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son Tackles the Tarif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ault of “triple wall of privilege”- trusts, tariff, and b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derwood Tariff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d for substantial reduction of r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import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cted graduated income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son Battles the Banke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son’s plea to Congress- sweeping reform of the bank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Reserve Act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mportant piece of economic legislation between the Civil War &amp; New Deal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d Federal Reserve Board to oversee a nationwide system of 12 regional reserve districts, each w/ its own central ban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issue paper money- federal reserve no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ming the Trus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Trade Commiss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ve presidentially appointed commission power to curb unfair trade advantages (interstate commer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yton Antitrust Act of 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 to Sherman Act’s list of business practices that were objection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ed benefits to lab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ilsonian Progressivism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ther re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Farm Loan Act of 19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credit available to farmers at low rates of inter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ed other laws benefiting rural Ame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men’s Compensation Act of 1916- granted assistance to federal civil-service employees during dis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7440" y="5257800"/>
            <a:ext cx="139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20:42:19Z</dcterms:created>
  <dc:creator>emily.johnson</dc:creator>
  <dc:description/>
  <dc:language>en-US</dc:language>
  <cp:lastModifiedBy>emily.johnson</cp:lastModifiedBy>
  <dcterms:modified xsi:type="dcterms:W3CDTF">2013-02-15T15:26:08Z</dcterms:modified>
  <cp:revision>8</cp:revision>
  <dc:subject/>
  <dc:title>Chapter 30 </dc:title>
</cp:coreProperties>
</file>